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875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84000" cy="87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57480" y="-36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304640" y="655200"/>
            <a:ext cx="4375080" cy="32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31168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57480" y="831168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6479880-244E-48AF-9930-EB9A9AC38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98904A-C395-4D6D-9367-5A61DE4821C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CC4B65-D5DE-4B13-AC5D-89CACF0E75E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2B7423-E5E2-494C-A5F3-36E9DF405B0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977A4C-0076-41E6-83D5-7492A938DD0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5E6D098-96CC-43B8-AAEA-A184AF49A01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C87FE4-2D61-49F2-A7B3-FE7C395636B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600DCC-A94B-40BB-A1AF-15CC301AD75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93D-38A9-48F3-B4F2-25010404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15B-7B0D-40C2-984B-46327158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39B-B48B-433F-AAFB-C08CAD5B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C90-D1FC-486C-9BAF-B96A3596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9765-E43F-4276-8D18-B5EC6123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F059-B92B-44E3-B3F7-427C8072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B5B5-E8C5-46A0-A4F0-DAEA7B9C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FC55-0BB1-4CBB-8BFB-C10880EE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CB10-B565-488B-9074-5E3BADCF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F888-4B5C-4313-BCE6-1BB847D3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A6E1-20E9-49C5-BEA5-817775FC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001-C87D-4628-834C-793129D1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B858-0A12-459C-8B51-604C8659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9B1B-DF4F-4D27-8AD7-19BE9CC7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D044-D3B5-4250-B6E1-0E10523F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2196-1412-49DF-8447-00013C9E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3D20-EDD9-4C35-9515-F6C5E5A5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A37-7814-405E-AC53-91845100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76F-81AD-42F5-B365-8EBD36FB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D11-D331-4662-AADD-6EC19056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5C8-410D-45A7-895B-0342E643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C8E-3E66-4F8E-8EAD-3F62A08F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874-286E-434E-A255-10E8D77E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24C-4571-4AC0-8E5F-09EEB3A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E4BF-BBC0-40A0-9432-537F5A517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7" name="Object 10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47" name="Object 9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F804-5708-41C8-A11C-E019707A9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7200" y="1523880"/>
            <a:ext cx="8804520" cy="4953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28600" y="160020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Vulnerability Enumeration (CV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Platform Enumeration (CP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Remediation Enumeration (CR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Remediation Information (ER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Control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Policy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mediation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16002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6858000" y="294948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86000" y="2514600"/>
            <a:ext cx="44956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286000" y="2754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24382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4343400" y="4648320"/>
            <a:ext cx="15238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63244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2971800" y="4648320"/>
            <a:ext cx="12952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41148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3048120" y="4800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523880" y="46483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61722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 flipV="1">
            <a:off x="25909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39625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175248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20040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640080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76201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1523880" y="46483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uble Ticketing System (Remed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4343400" y="4800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Remediation Tool (SR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763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a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895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19051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2286000" y="32004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ocal Remediation Policy Edi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isk Management Process Sup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5943600" y="4648320"/>
            <a:ext cx="16002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1"/>
          <p:cNvSpPr/>
          <p:nvPr/>
        </p:nvSpPr>
        <p:spPr>
          <a:xfrm>
            <a:off x="5943600" y="479124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Distribution (Patch Too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 flipV="1">
            <a:off x="56386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54864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464832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1600200" y="2949480"/>
            <a:ext cx="762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7816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6095880" y="5943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USutil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2971800" y="58672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add, Dsmod, Dsrm, Dsmove, LDIF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4491000" y="5867280"/>
            <a:ext cx="97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edit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LS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362320" y="152280"/>
            <a:ext cx="4800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mediation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 rot="16200000">
            <a:off x="4191120" y="1371240"/>
            <a:ext cx="1523880" cy="38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3200400" y="3059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762120" y="3429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762120" y="2971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762120" y="35812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 Reporting on tas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41148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5486400" y="41860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Registry Settings equivalent to using 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4800600" y="480060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File Permissions equivalent to using CACLS.ex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4114800" y="54100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Policy Changes equivalent to using secedit.exe command l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762120" y="228600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s CRE, Parameters, and ID Tasking or XML file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5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3733920" y="5068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7"/>
          <p:cNvSpPr/>
          <p:nvPr/>
        </p:nvSpPr>
        <p:spPr>
          <a:xfrm>
            <a:off x="3733920" y="40384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>
            <a:off x="3352680" y="5678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21"/>
          <p:cNvSpPr/>
          <p:nvPr/>
        </p:nvSpPr>
        <p:spPr>
          <a:xfrm>
            <a:off x="3352680" y="403848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ackup Sli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an 25"/>
          <p:cNvSpPr/>
          <p:nvPr/>
        </p:nvSpPr>
        <p:spPr>
          <a:xfrm>
            <a:off x="3657600" y="2971800"/>
            <a:ext cx="121932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ge Polici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14400" y="15238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676520" y="17524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676520" y="4724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/ERI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n 23"/>
          <p:cNvSpPr/>
          <p:nvPr/>
        </p:nvSpPr>
        <p:spPr>
          <a:xfrm>
            <a:off x="3657600" y="167652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n 24"/>
          <p:cNvSpPr/>
          <p:nvPr/>
        </p:nvSpPr>
        <p:spPr>
          <a:xfrm>
            <a:off x="3657600" y="4648320"/>
            <a:ext cx="121932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wn Arrow 29"/>
          <p:cNvSpPr/>
          <p:nvPr/>
        </p:nvSpPr>
        <p:spPr>
          <a:xfrm rot="16200000">
            <a:off x="2590920" y="1828800"/>
            <a:ext cx="1218960" cy="914400"/>
          </a:xfrm>
          <a:prstGeom prst="downArrow">
            <a:avLst>
              <a:gd name="adj1" fmla="val 78389"/>
              <a:gd name="adj2" fmla="val 2037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New Polic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own Arrow 30"/>
          <p:cNvSpPr/>
          <p:nvPr/>
        </p:nvSpPr>
        <p:spPr>
          <a:xfrm rot="16200000">
            <a:off x="2629080" y="4762440"/>
            <a:ext cx="1218960" cy="990720"/>
          </a:xfrm>
          <a:prstGeom prst="downArrow">
            <a:avLst>
              <a:gd name="adj1" fmla="val 78611"/>
              <a:gd name="adj2" fmla="val 2000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Known Remedi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xplosion 1 32"/>
          <p:cNvSpPr/>
          <p:nvPr/>
        </p:nvSpPr>
        <p:spPr>
          <a:xfrm>
            <a:off x="5638680" y="1600200"/>
            <a:ext cx="1981440" cy="160020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cal Policy Ed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n 33"/>
          <p:cNvSpPr/>
          <p:nvPr/>
        </p:nvSpPr>
        <p:spPr>
          <a:xfrm>
            <a:off x="55627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 &amp; Groups by To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eft-Right Arrow 35"/>
          <p:cNvSpPr/>
          <p:nvPr/>
        </p:nvSpPr>
        <p:spPr>
          <a:xfrm rot="17211600">
            <a:off x="5673600" y="3171600"/>
            <a:ext cx="1524240" cy="685800"/>
          </a:xfrm>
          <a:prstGeom prst="leftRightArrow">
            <a:avLst>
              <a:gd name="adj1" fmla="val 50000"/>
              <a:gd name="adj2" fmla="val 447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Policies to each tool for  Devices &amp;Device Grou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eft-Right Arrow 36"/>
          <p:cNvSpPr/>
          <p:nvPr/>
        </p:nvSpPr>
        <p:spPr>
          <a:xfrm rot="382800">
            <a:off x="4648320" y="1981080"/>
            <a:ext cx="1447560" cy="609840"/>
          </a:xfrm>
          <a:prstGeom prst="leftRightArrow">
            <a:avLst>
              <a:gd name="adj1" fmla="val 50000"/>
              <a:gd name="adj2" fmla="val 58023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and Sav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eft-Right Arrow 37"/>
          <p:cNvSpPr/>
          <p:nvPr/>
        </p:nvSpPr>
        <p:spPr>
          <a:xfrm rot="18663600">
            <a:off x="4000320" y="3465360"/>
            <a:ext cx="2714400" cy="438120"/>
          </a:xfrm>
          <a:prstGeom prst="leftRightArrow">
            <a:avLst>
              <a:gd name="adj1" fmla="val 50000"/>
              <a:gd name="adj2" fmla="val 5340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Create, &amp; Store Remedi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371600" y="1828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371600" y="2514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1371600" y="4800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5486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676520" y="33526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1371600" y="34290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1371600" y="4114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8"/>
          <p:cNvSpPr/>
          <p:nvPr/>
        </p:nvSpPr>
        <p:spPr>
          <a:xfrm>
            <a:off x="2743200" y="3200400"/>
            <a:ext cx="990720" cy="1371600"/>
          </a:xfrm>
          <a:prstGeom prst="leftArrow">
            <a:avLst>
              <a:gd name="adj1" fmla="val 71602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Locally Created Remediations &amp;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eft-Right Arrow 37"/>
          <p:cNvSpPr/>
          <p:nvPr/>
        </p:nvSpPr>
        <p:spPr>
          <a:xfrm rot="20280000">
            <a:off x="4114440" y="2743200"/>
            <a:ext cx="2176560" cy="438120"/>
          </a:xfrm>
          <a:prstGeom prst="leftRightArrow">
            <a:avLst>
              <a:gd name="adj1" fmla="val 50000"/>
              <a:gd name="adj2" fmla="val 4282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, Edit, Create, &amp; Store Mitigations and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n 33"/>
          <p:cNvSpPr/>
          <p:nvPr/>
        </p:nvSpPr>
        <p:spPr>
          <a:xfrm>
            <a:off x="71629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ool 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eft-Right Arrow 35"/>
          <p:cNvSpPr/>
          <p:nvPr/>
        </p:nvSpPr>
        <p:spPr>
          <a:xfrm rot="3470400">
            <a:off x="6734160" y="3159000"/>
            <a:ext cx="1828800" cy="691920"/>
          </a:xfrm>
          <a:prstGeom prst="leftRightArrow">
            <a:avLst>
              <a:gd name="adj1" fmla="val 50000"/>
              <a:gd name="adj2" fmla="val 5326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dentify which remediations/mitigations each tool can imple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04920" y="160020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ecute Policy-Based Remedi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7238880" y="3581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229600" y="3657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8229600" y="4343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7238880" y="4800600"/>
            <a:ext cx="1143000" cy="10666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us Pars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8229600" y="55627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97180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312408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37339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n 26"/>
          <p:cNvSpPr/>
          <p:nvPr/>
        </p:nvSpPr>
        <p:spPr>
          <a:xfrm>
            <a:off x="1828800" y="3886200"/>
            <a:ext cx="220968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n 27"/>
          <p:cNvSpPr/>
          <p:nvPr/>
        </p:nvSpPr>
        <p:spPr>
          <a:xfrm>
            <a:off x="5334120" y="220968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9"/>
          <p:cNvGrpSpPr/>
          <p:nvPr/>
        </p:nvGrpSpPr>
        <p:grpSpPr>
          <a:xfrm>
            <a:off x="1752480" y="4800240"/>
            <a:ext cx="1067040" cy="2057400"/>
            <a:chOff x="1752480" y="4800240"/>
            <a:chExt cx="1067040" cy="2057400"/>
          </a:xfrm>
        </p:grpSpPr>
        <p:sp>
          <p:nvSpPr>
            <p:cNvPr id="191" name="Rectangle 5"/>
            <p:cNvSpPr/>
            <p:nvPr/>
          </p:nvSpPr>
          <p:spPr>
            <a:xfrm rot="16200000">
              <a:off x="1714320" y="5371560"/>
              <a:ext cx="1143000" cy="106704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 rot="16200000">
              <a:off x="17139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16200000">
              <a:off x="240012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ight Arrow 31"/>
            <p:cNvSpPr/>
            <p:nvPr/>
          </p:nvSpPr>
          <p:spPr>
            <a:xfrm rot="16200000">
              <a:off x="2057400" y="4723920"/>
              <a:ext cx="685800" cy="83844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Explosion 1 38"/>
          <p:cNvSpPr/>
          <p:nvPr/>
        </p:nvSpPr>
        <p:spPr>
          <a:xfrm>
            <a:off x="2971800" y="1600200"/>
            <a:ext cx="1600200" cy="129528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ask Buil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-Right Arrow 40"/>
          <p:cNvSpPr/>
          <p:nvPr/>
        </p:nvSpPr>
        <p:spPr>
          <a:xfrm rot="17008200">
            <a:off x="2770200" y="2868120"/>
            <a:ext cx="1600200" cy="739800"/>
          </a:xfrm>
          <a:prstGeom prst="leftRightArrow">
            <a:avLst>
              <a:gd name="adj1" fmla="val 50000"/>
              <a:gd name="adj2" fmla="val 2067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Mitigations, Alternatie Remediations, &amp; Accept Risk based on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n 23"/>
          <p:cNvSpPr/>
          <p:nvPr/>
        </p:nvSpPr>
        <p:spPr>
          <a:xfrm>
            <a:off x="380880" y="266688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n 33"/>
          <p:cNvSpPr/>
          <p:nvPr/>
        </p:nvSpPr>
        <p:spPr>
          <a:xfrm>
            <a:off x="380880" y="1600200"/>
            <a:ext cx="129564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&amp;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eft-Right Arrow 40"/>
          <p:cNvSpPr/>
          <p:nvPr/>
        </p:nvSpPr>
        <p:spPr>
          <a:xfrm rot="460200">
            <a:off x="1512360" y="1947600"/>
            <a:ext cx="1819440" cy="436320"/>
          </a:xfrm>
          <a:prstGeom prst="leftRightArrow">
            <a:avLst>
              <a:gd name="adj1" fmla="val 50000"/>
              <a:gd name="adj2" fmla="val 39866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Locate devices in groups to determine applicabl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eft-Right Arrow 40"/>
          <p:cNvSpPr/>
          <p:nvPr/>
        </p:nvSpPr>
        <p:spPr>
          <a:xfrm rot="20306400">
            <a:off x="1512720" y="2643120"/>
            <a:ext cx="1981440" cy="436680"/>
          </a:xfrm>
          <a:prstGeom prst="leftRightArrow">
            <a:avLst>
              <a:gd name="adj1" fmla="val 50000"/>
              <a:gd name="adj2" fmla="val 3985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eive Policies for each device &amp; look up remedi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3048120" y="4800600"/>
            <a:ext cx="990360" cy="685800"/>
          </a:xfrm>
          <a:prstGeom prst="downArrow">
            <a:avLst>
              <a:gd name="adj1" fmla="val 68907"/>
              <a:gd name="adj2" fmla="val 322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s &amp; Mitig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eft-Right Arrow 40"/>
          <p:cNvSpPr/>
          <p:nvPr/>
        </p:nvSpPr>
        <p:spPr>
          <a:xfrm rot="957600">
            <a:off x="4038120" y="2437920"/>
            <a:ext cx="1447920" cy="436680"/>
          </a:xfrm>
          <a:prstGeom prst="leftRightArrow">
            <a:avLst>
              <a:gd name="adj1" fmla="val 50000"/>
              <a:gd name="adj2" fmla="val 3169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mediation Tasks Assigned to Too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xplosion 1 38"/>
          <p:cNvSpPr/>
          <p:nvPr/>
        </p:nvSpPr>
        <p:spPr>
          <a:xfrm>
            <a:off x="5257800" y="3809880"/>
            <a:ext cx="1600200" cy="129564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Workflow Manag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eft-Right Arrow 40"/>
          <p:cNvSpPr/>
          <p:nvPr/>
        </p:nvSpPr>
        <p:spPr>
          <a:xfrm rot="16483800">
            <a:off x="52012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New Taskings Retreiv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eft-Right Arrow 40"/>
          <p:cNvSpPr/>
          <p:nvPr/>
        </p:nvSpPr>
        <p:spPr>
          <a:xfrm rot="20763600">
            <a:off x="6400800" y="3962520"/>
            <a:ext cx="1066680" cy="436320"/>
          </a:xfrm>
          <a:prstGeom prst="leftRightArrow">
            <a:avLst>
              <a:gd name="adj1" fmla="val 50000"/>
              <a:gd name="adj2" fmla="val 2337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Tasks Assigned for Public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eft-Right Arrow 40"/>
          <p:cNvSpPr/>
          <p:nvPr/>
        </p:nvSpPr>
        <p:spPr>
          <a:xfrm rot="1420800">
            <a:off x="5866920" y="4952880"/>
            <a:ext cx="1676520" cy="436680"/>
          </a:xfrm>
          <a:prstGeom prst="leftRightArrow">
            <a:avLst>
              <a:gd name="adj1" fmla="val 50000"/>
              <a:gd name="adj2" fmla="val 36704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Provided for Processing &amp; Displa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eft-Right Arrow 40"/>
          <p:cNvSpPr/>
          <p:nvPr/>
        </p:nvSpPr>
        <p:spPr>
          <a:xfrm rot="16483800">
            <a:off x="56584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Stor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port Remediation and Risk Acceptance Statu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167652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655308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67057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731520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26"/>
          <p:cNvSpPr/>
          <p:nvPr/>
        </p:nvSpPr>
        <p:spPr>
          <a:xfrm>
            <a:off x="5410080" y="3886200"/>
            <a:ext cx="221004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9"/>
          <p:cNvGrpSpPr/>
          <p:nvPr/>
        </p:nvGrpSpPr>
        <p:grpSpPr>
          <a:xfrm>
            <a:off x="5334120" y="4800240"/>
            <a:ext cx="1066680" cy="2057400"/>
            <a:chOff x="5334120" y="4800240"/>
            <a:chExt cx="1066680" cy="2057400"/>
          </a:xfrm>
        </p:grpSpPr>
        <p:sp>
          <p:nvSpPr>
            <p:cNvPr id="215" name="Rectangle 5"/>
            <p:cNvSpPr/>
            <p:nvPr/>
          </p:nvSpPr>
          <p:spPr>
            <a:xfrm rot="16200000">
              <a:off x="5295960" y="5371920"/>
              <a:ext cx="1143000" cy="106668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 rot="16200000">
              <a:off x="529560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 rot="16200000">
              <a:off x="59817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ight Arrow 31"/>
            <p:cNvSpPr/>
            <p:nvPr/>
          </p:nvSpPr>
          <p:spPr>
            <a:xfrm rot="16200000">
              <a:off x="5638680" y="4723920"/>
              <a:ext cx="685800" cy="83808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Can 25"/>
          <p:cNvSpPr/>
          <p:nvPr/>
        </p:nvSpPr>
        <p:spPr>
          <a:xfrm>
            <a:off x="533520" y="4648320"/>
            <a:ext cx="121896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an 24"/>
          <p:cNvSpPr/>
          <p:nvPr/>
        </p:nvSpPr>
        <p:spPr>
          <a:xfrm>
            <a:off x="533520" y="3733920"/>
            <a:ext cx="121896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0"/>
          <p:cNvSpPr/>
          <p:nvPr/>
        </p:nvSpPr>
        <p:spPr>
          <a:xfrm>
            <a:off x="6477120" y="4724280"/>
            <a:ext cx="1295280" cy="762120"/>
          </a:xfrm>
          <a:prstGeom prst="downArrow">
            <a:avLst>
              <a:gd name="adj1" fmla="val 83824"/>
              <a:gd name="adj2" fmla="val 321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 Mitigations/ Exceptions &amp; Remediation Failur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xplosion 1 38"/>
          <p:cNvSpPr/>
          <p:nvPr/>
        </p:nvSpPr>
        <p:spPr>
          <a:xfrm>
            <a:off x="2438280" y="1523880"/>
            <a:ext cx="1752840" cy="236232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tigation and Exception Reporting Eng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eft-Right Arrow 40"/>
          <p:cNvSpPr/>
          <p:nvPr/>
        </p:nvSpPr>
        <p:spPr>
          <a:xfrm rot="1581000">
            <a:off x="3429000" y="3733920"/>
            <a:ext cx="2562120" cy="436320"/>
          </a:xfrm>
          <a:prstGeom prst="leftRightArrow">
            <a:avLst>
              <a:gd name="adj1" fmla="val 50000"/>
              <a:gd name="adj2" fmla="val 5613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Provide Mitigation and Exception Documentation to Unremediated Non-compliant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eft-Right Arrow 40"/>
          <p:cNvSpPr/>
          <p:nvPr/>
        </p:nvSpPr>
        <p:spPr>
          <a:xfrm rot="19075200">
            <a:off x="914400" y="4038120"/>
            <a:ext cx="2562120" cy="436680"/>
          </a:xfrm>
          <a:prstGeom prst="leftRightArrow">
            <a:avLst>
              <a:gd name="adj1" fmla="val 50000"/>
              <a:gd name="adj2" fmla="val 5609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Exception and Mitigation Detai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n 27"/>
          <p:cNvSpPr/>
          <p:nvPr/>
        </p:nvSpPr>
        <p:spPr>
          <a:xfrm>
            <a:off x="5791320" y="205740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eft-Right Arrow 40"/>
          <p:cNvSpPr/>
          <p:nvPr/>
        </p:nvSpPr>
        <p:spPr>
          <a:xfrm rot="21008400">
            <a:off x="3728520" y="2284560"/>
            <a:ext cx="2210040" cy="838080"/>
          </a:xfrm>
          <a:prstGeom prst="leftRightArrow">
            <a:avLst>
              <a:gd name="adj1" fmla="val 50000"/>
              <a:gd name="adj2" fmla="val 2521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Completed Mitigation Tasks and Incomplete Remediation Task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3:29:36Z</dcterms:created>
  <dc:creator>.</dc:creator>
  <dc:description/>
  <dc:language>en-US</dc:language>
  <cp:lastModifiedBy>sboczeno</cp:lastModifiedBy>
  <dcterms:modified xsi:type="dcterms:W3CDTF">2010-07-07T14:41:16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ification">
    <vt:lpwstr>UNCLASSIFIED</vt:lpwstr>
  </property>
  <property fmtid="{D5CDD505-2E9C-101B-9397-08002B2CF9AE}" pid="3" name="Dissemination">
    <vt:lpwstr>FOR OFFICIAL USE ONLY</vt:lpwstr>
  </property>
</Properties>
</file>